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ct" ContentType="image/x-pict"/>
  <Override PartName="/ppt/media/image13.pct" ContentType="image/x-pict"/>
  <Override PartName="/ppt/media/image4.jpeg" ContentType="image/jpeg"/>
  <Override PartName="/ppt/media/image17.pct" ContentType="image/x-pict"/>
  <Override PartName="/ppt/media/image15.pct" ContentType="image/x-pict"/>
  <Override PartName="/ppt/media/image14.pct" ContentType="image/x-pict"/>
  <Override PartName="/ppt/media/image9.pct" ContentType="image/x-pict"/>
  <Override PartName="/ppt/media/image1.jpeg" ContentType="image/jpeg"/>
  <Override PartName="/ppt/media/image2.pct" ContentType="image/x-pict"/>
  <Override PartName="/ppt/media/image3.jpeg" ContentType="image/jpeg"/>
  <Override PartName="/ppt/media/image5.jpeg" ContentType="image/jpeg"/>
  <Override PartName="/ppt/media/image16.pct" ContentType="image/x-pict"/>
  <Override PartName="/ppt/media/image10.jpeg" ContentType="image/jpeg"/>
  <Override PartName="/ppt/media/image12.pct" ContentType="image/x-pict"/>
  <Override PartName="/ppt/media/image7.jpeg" ContentType="image/jpeg"/>
  <Override PartName="/ppt/media/image8.pct" ContentType="image/x-pict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9DF4-3075-4874-A008-9B24985EC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A432-A3AD-450C-A6D2-64FD07CA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F467-7C6C-4F1B-B019-9E06E6AEC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5B7E-7761-4E82-ADF7-E41E5B406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2653-F6F1-4BA3-93A1-85B4D3F5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9F6A-5FAE-45BA-8AA3-B02E1FC9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B3D4-B82C-4389-96E0-11618827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3D14-36DB-4F84-8474-5B339989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8267-F215-4F67-93FD-DCD5E934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F53D-FF08-4AFE-B547-113E303B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72B8-D0DE-4568-97DE-8A1F7CF1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5795-317C-4D8F-AC15-294F56CE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6B6B-6659-425F-B392-479D7FDCC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ct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image" Target="../media/image13.pct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81280" y="585720"/>
            <a:ext cx="4800600" cy="2691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880" y="1190520"/>
            <a:ext cx="3429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no Pro"/>
              </a:rPr>
              <a:t>Pride and Preju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no Pro"/>
              </a:rPr>
              <a:t>BBC six-hour mini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no Pro"/>
              </a:rPr>
              <a:t>Simon Langton, 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81480" y="5257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0" r="0" b="882153"/>
          <a:stretch/>
        </p:blipFill>
        <p:spPr>
          <a:xfrm>
            <a:off x="3581280" y="3627360"/>
            <a:ext cx="4800600" cy="2697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4920" y="4176720"/>
            <a:ext cx="30477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no Pro"/>
              </a:rPr>
              <a:t>Pride and Preju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no Pro"/>
              </a:rPr>
              <a:t>Joe Wright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4114800" cy="3111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5800" y="3429000"/>
            <a:ext cx="4191120" cy="3147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257800" y="533520"/>
            <a:ext cx="3429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no Pro"/>
              </a:rPr>
              <a:t>Jane Ben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no Pro"/>
              </a:rPr>
              <a:t>Langton, 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81480" y="525780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no Pro"/>
              </a:rPr>
              <a:t>Jane Ben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no Pro"/>
              </a:rPr>
              <a:t>Wright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6561" r="0" b="0"/>
          <a:stretch/>
        </p:blipFill>
        <p:spPr>
          <a:xfrm>
            <a:off x="5257800" y="380880"/>
            <a:ext cx="3718080" cy="4343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20662" t="0" r="0" b="0"/>
          <a:stretch/>
        </p:blipFill>
        <p:spPr>
          <a:xfrm>
            <a:off x="228600" y="425520"/>
            <a:ext cx="4952880" cy="4298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143000" y="5014800"/>
            <a:ext cx="3429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no Pro"/>
              </a:rPr>
              <a:t>Elizabeth Ben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no Pro"/>
              </a:rPr>
              <a:t>Langton, 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07560" y="4938840"/>
            <a:ext cx="275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no Pro"/>
              </a:rPr>
              <a:t>Elizabeth Ben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no Pro"/>
              </a:rPr>
              <a:t>Wright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4800600" cy="355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89920" y="533520"/>
            <a:ext cx="2312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no Pro"/>
              </a:rPr>
              <a:t>Mr. Ben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no Pro"/>
              </a:rPr>
              <a:t>Langton, 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105278" t="0" r="157917" b="0"/>
          <a:stretch/>
        </p:blipFill>
        <p:spPr>
          <a:xfrm>
            <a:off x="380880" y="3411360"/>
            <a:ext cx="4800600" cy="3446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34290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no Pro"/>
              </a:rPr>
              <a:t>Mr. Bennet Wright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257800" y="3992400"/>
            <a:ext cx="365760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6945" b="0"/>
          <a:stretch/>
        </p:blipFill>
        <p:spPr>
          <a:xfrm>
            <a:off x="0" y="9360"/>
            <a:ext cx="5105520" cy="3146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694480" y="838080"/>
            <a:ext cx="2312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no Pro"/>
              </a:rPr>
              <a:t>Mrs. Ben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no Pro"/>
              </a:rPr>
              <a:t>Langton, 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4120" y="3916440"/>
            <a:ext cx="3657600" cy="2865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rcRect l="91233" t="0" r="336164" b="0"/>
          <a:stretch/>
        </p:blipFill>
        <p:spPr>
          <a:xfrm>
            <a:off x="0" y="3200400"/>
            <a:ext cx="5181480" cy="3594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410080" y="3429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no Pro"/>
              </a:rPr>
              <a:t>Mrs. Bennet   Wright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562720" y="5410080"/>
            <a:ext cx="1778040" cy="1181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3598920"/>
            <a:ext cx="5029200" cy="3259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161320" y="762120"/>
            <a:ext cx="2312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no Pro"/>
              </a:rPr>
              <a:t>Mr. Bing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no Pro"/>
              </a:rPr>
              <a:t>Langton, 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41320" y="3886200"/>
            <a:ext cx="2093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no Pro"/>
              </a:rPr>
              <a:t>Mr. Bing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no Pro"/>
              </a:rPr>
              <a:t>Wright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0" b="261830"/>
          <a:stretch/>
        </p:blipFill>
        <p:spPr>
          <a:xfrm>
            <a:off x="609480" y="0"/>
            <a:ext cx="3733920" cy="5105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343400" y="0"/>
            <a:ext cx="3708360" cy="50799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019920" y="4511520"/>
            <a:ext cx="3124080" cy="2346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41600" y="5410080"/>
            <a:ext cx="2312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no Pro"/>
              </a:rPr>
              <a:t>Mr. Dar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no Pro"/>
              </a:rPr>
              <a:t>Langton, 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17440" y="5410080"/>
            <a:ext cx="2093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no Pro"/>
              </a:rPr>
              <a:t>Mr. Dar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no Pro"/>
              </a:rPr>
              <a:t>Wright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12:45:37Z</dcterms:created>
  <dc:creator>admin CHRHS</dc:creator>
  <dc:description/>
  <dc:language>en-US</dc:language>
  <cp:lastModifiedBy>admin CHRHS</cp:lastModifiedBy>
  <dcterms:modified xsi:type="dcterms:W3CDTF">2009-11-19T15:48:19Z</dcterms:modified>
  <cp:revision>1</cp:revision>
  <dc:subject/>
  <dc:title>PowerPoint Presentation</dc:title>
</cp:coreProperties>
</file>